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35E-59A1-49A6-91CA-EAA03BDE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FA8-F2CC-40EE-A660-C9E5AC2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F9B-9765-4680-AEE3-088554CD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044-6299-495B-88D5-9DCE17B6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5BD9-967E-4D6A-B046-0FCB5050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17DF-4497-4FC6-AAB1-09F2F86C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3D23-880B-4D82-8998-0F2377C7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525D-34F2-484A-9BC4-317CB7B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BF20-579F-4E85-9F6E-C723C4CC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F5CD-24E1-4586-A4CB-5704F91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D2AF-03EF-4D51-B604-3E22C7F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79D-A711-422F-98F7-361302F2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7067-1072-4D46-AE3B-CF2D5052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F408-B41A-4AF4-9693-0E4ED18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FD65-4340-4EB2-8F78-0DEA721C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1CBC-AC99-4E65-B22B-810BE3D9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E603-5E44-41C7-B176-D5D30EE5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AF8B7-0B3F-49BD-9548-B42EAE0E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6733-2449-4E6B-863C-5E2B5DD6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4F4D-255A-4271-94D3-41A55FCB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FA2C-B638-4F9B-B233-158F81D7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86D1-E5F4-4287-A283-57A3D170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01B-FE53-41CD-A7F9-7D61D705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03E5-C049-40A8-BBC4-1FCA12D1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FDFA-7015-4C86-8C1D-48C41851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4223-B9B9-464A-AFFF-4353F827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BBC6-F32D-4193-BF66-F83F5C1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C638-69A4-453A-A759-6DA38584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2CEE-471B-40DD-89A2-775F27B2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B0D2-D686-4F9A-8CDB-449FEFE1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2D3-47ED-459D-9BAC-144F2D78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C1B-3828-40A8-9918-5C2A31CF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761-3CA7-4B47-A043-50C7A6E8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109-8993-4DF0-A01D-82313AF3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1BD-2B87-4444-8F2A-7350458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905-2137-4A48-9B03-876FAB45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972D-F898-47CB-8B19-5E9D267EE0A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463A-62A7-48F2-AB6A-581265C5CA1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CB5F-2CEB-4308-8F6F-C1CAF4872C5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63CE-CC01-4A55-81BC-EFD325CA47A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E8DB-6AE3-468F-89AF-C6776C71454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3CF9-4CF4-44A9-8FF3-CEAA555691C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39680" y="304920"/>
            <a:ext cx="854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b400"/>
                </a:solidFill>
                <a:latin typeface="Arial"/>
              </a:rPr>
              <a:t>Vocabulary to Kn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5800" y="16765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E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1, page 5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9680" y="304920"/>
            <a:ext cx="854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b400"/>
                </a:solidFill>
                <a:latin typeface="Arial"/>
              </a:rPr>
              <a:t>Categories of Asse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914400" y="1828800"/>
            <a:ext cx="70866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Current Asse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xamples?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Plant Asse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xamples?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4400" y="228240"/>
            <a:ext cx="80424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b400"/>
                </a:solidFill>
                <a:latin typeface="News Gothic MT"/>
              </a:rPr>
              <a:t>RECORDING THE BUYING OF A PLANT ASSET</a:t>
            </a:r>
            <a:endParaRPr b="0" lang="en-US" sz="2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, 2011. Paid cash for a display case, $1,250.00. Check No.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52280" y="175248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counts are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52280" y="5373720"/>
            <a:ext cx="6553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mount entered in the accou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increase on the debit si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decrease on the credit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422928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classification chang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increa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are decrea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52280" y="287640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each account classifi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Equip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sset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27"/>
          <p:cNvGrpSpPr/>
          <p:nvPr/>
        </p:nvGrpSpPr>
        <p:grpSpPr>
          <a:xfrm>
            <a:off x="5638680" y="1523880"/>
            <a:ext cx="2971800" cy="3881520"/>
            <a:chOff x="5638680" y="1523880"/>
            <a:chExt cx="2971800" cy="3881520"/>
          </a:xfrm>
        </p:grpSpPr>
        <p:grpSp>
          <p:nvGrpSpPr>
            <p:cNvPr id="136" name="Group 24"/>
            <p:cNvGrpSpPr/>
            <p:nvPr/>
          </p:nvGrpSpPr>
          <p:grpSpPr>
            <a:xfrm>
              <a:off x="5638680" y="3581280"/>
              <a:ext cx="2971800" cy="1824120"/>
              <a:chOff x="5638680" y="3581280"/>
              <a:chExt cx="2971800" cy="1824120"/>
            </a:xfrm>
          </p:grpSpPr>
          <p:sp>
            <p:nvSpPr>
              <p:cNvPr id="137" name="Text Box 10"/>
              <p:cNvSpPr/>
              <p:nvPr/>
            </p:nvSpPr>
            <p:spPr>
              <a:xfrm>
                <a:off x="6724080" y="35812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5638680" y="396252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7086600" y="396252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5"/>
            <p:cNvGrpSpPr/>
            <p:nvPr/>
          </p:nvGrpSpPr>
          <p:grpSpPr>
            <a:xfrm>
              <a:off x="5638680" y="1523880"/>
              <a:ext cx="2971800" cy="1828800"/>
              <a:chOff x="5638680" y="1523880"/>
              <a:chExt cx="2971800" cy="1828800"/>
            </a:xfrm>
          </p:grpSpPr>
          <p:sp>
            <p:nvSpPr>
              <p:cNvPr id="141" name="Text Box 14"/>
              <p:cNvSpPr/>
              <p:nvPr/>
            </p:nvSpPr>
            <p:spPr>
              <a:xfrm>
                <a:off x="6140160" y="1523880"/>
                <a:ext cx="187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ore Equip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5638680" y="190512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7086600" y="190980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Text Box 17"/>
          <p:cNvSpPr/>
          <p:nvPr/>
        </p:nvSpPr>
        <p:spPr>
          <a:xfrm>
            <a:off x="5563080" y="205740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561640" y="40784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6036480" y="284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5724000" y="2590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5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1"/>
          <p:cNvSpPr/>
          <p:nvPr/>
        </p:nvSpPr>
        <p:spPr>
          <a:xfrm flipV="1">
            <a:off x="7679520" y="487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7400160" y="462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5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1, page 5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D:\C21 PowerPoint\Multi_Journal\art for blue\Ch21\Ch21-01a.jpg"/>
          <p:cNvPicPr/>
          <p:nvPr/>
        </p:nvPicPr>
        <p:blipFill>
          <a:blip r:embed="rId2"/>
          <a:srcRect l="0" t="0" r="0" b="55229"/>
          <a:stretch/>
        </p:blipFill>
        <p:spPr>
          <a:xfrm>
            <a:off x="457200" y="1143000"/>
            <a:ext cx="7620120" cy="3840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2"/>
          <p:cNvSpPr/>
          <p:nvPr/>
        </p:nvSpPr>
        <p:spPr>
          <a:xfrm>
            <a:off x="514440" y="37180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the Plant As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c7c9f"/>
                </a:solidFill>
                <a:latin typeface="News Gothic MT"/>
              </a:rPr>
              <a:t>RECORDING THE BUYING OF A PLANT ASSET</a:t>
            </a:r>
            <a:endParaRPr b="0" lang="en-US" sz="2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4479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4724280" y="22096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92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14440" y="437832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14440" y="474192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4"/>
          <p:cNvGrpSpPr/>
          <p:nvPr/>
        </p:nvGrpSpPr>
        <p:grpSpPr>
          <a:xfrm>
            <a:off x="4343400" y="2286000"/>
            <a:ext cx="838080" cy="2362320"/>
            <a:chOff x="4343400" y="2286000"/>
            <a:chExt cx="838080" cy="2362320"/>
          </a:xfrm>
        </p:grpSpPr>
        <p:sp>
          <p:nvSpPr>
            <p:cNvPr id="161" name="Line 13"/>
            <p:cNvSpPr/>
            <p:nvPr/>
          </p:nvSpPr>
          <p:spPr>
            <a:xfrm>
              <a:off x="4343400" y="2286000"/>
              <a:ext cx="838080" cy="2362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8"/>
            <p:cNvSpPr/>
            <p:nvPr/>
          </p:nvSpPr>
          <p:spPr>
            <a:xfrm>
              <a:off x="4343400" y="2819520"/>
              <a:ext cx="53352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92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15"/>
          <p:cNvSpPr/>
          <p:nvPr/>
        </p:nvSpPr>
        <p:spPr>
          <a:xfrm>
            <a:off x="734112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1, page 5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39680" y="304920"/>
            <a:ext cx="854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b400"/>
                </a:solidFill>
                <a:latin typeface="Arial"/>
              </a:rPr>
              <a:t>Property and Property Tax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914400" y="1447920"/>
            <a:ext cx="70866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Real Property (Real Estat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and and anything attached to 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Personal Proper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ything not considered Real Propert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Assessed Val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value of an asset determined by tax authorities (Assessor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9"/>
          <p:cNvGrpSpPr/>
          <p:nvPr/>
        </p:nvGrpSpPr>
        <p:grpSpPr>
          <a:xfrm>
            <a:off x="457200" y="1838160"/>
            <a:ext cx="8153640" cy="858600"/>
            <a:chOff x="457200" y="1838160"/>
            <a:chExt cx="8153640" cy="858600"/>
          </a:xfrm>
        </p:grpSpPr>
        <p:sp>
          <p:nvSpPr>
            <p:cNvPr id="167" name="Text Box 22"/>
            <p:cNvSpPr/>
            <p:nvPr/>
          </p:nvSpPr>
          <p:spPr>
            <a:xfrm>
              <a:off x="1258920" y="1942920"/>
              <a:ext cx="7351920" cy="703800"/>
            </a:xfrm>
            <a:prstGeom prst="rect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915840"/>
                  <a:tab algn="ctr" pos="2049480"/>
                  <a:tab algn="ctr" pos="3198960"/>
                  <a:tab algn="ctr" pos="4349880"/>
                  <a:tab algn="ctr" pos="6002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essed Valu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x Rat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ual Property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ctr" pos="915840"/>
                  <a:tab algn="ctr" pos="2049480"/>
                  <a:tab algn="ctr" pos="3198960"/>
                  <a:tab algn="ctr" pos="4349880"/>
                  <a:tab algn="ctr" pos="60022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Group 23"/>
            <p:cNvGrpSpPr/>
            <p:nvPr/>
          </p:nvGrpSpPr>
          <p:grpSpPr>
            <a:xfrm>
              <a:off x="457200" y="1838160"/>
              <a:ext cx="858600" cy="858600"/>
              <a:chOff x="457200" y="1838160"/>
              <a:chExt cx="858600" cy="858600"/>
            </a:xfrm>
          </p:grpSpPr>
          <p:sp>
            <p:nvSpPr>
              <p:cNvPr id="169" name="Text Box 24"/>
              <p:cNvSpPr/>
              <p:nvPr/>
            </p:nvSpPr>
            <p:spPr>
              <a:xfrm>
                <a:off x="457200" y="183816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25"/>
              <p:cNvSpPr/>
              <p:nvPr/>
            </p:nvSpPr>
            <p:spPr>
              <a:xfrm>
                <a:off x="914400" y="1838160"/>
                <a:ext cx="401400" cy="398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26"/>
              <p:cNvSpPr/>
              <p:nvPr/>
            </p:nvSpPr>
            <p:spPr>
              <a:xfrm>
                <a:off x="457200" y="229824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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27"/>
              <p:cNvSpPr/>
              <p:nvPr/>
            </p:nvSpPr>
            <p:spPr>
              <a:xfrm>
                <a:off x="914400" y="2296800"/>
                <a:ext cx="401400" cy="3985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  <a:effectLst>
                <a:outerShdw dist="17819" dir="13500000" blurRad="0" rotWithShape="0">
                  <a:srgbClr val="008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CALCULATING AND PAYING PROPERTY TAX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4" name="Picture 4" descr="D:\C21 PowerPoint\Multi_Journal\art for blue\Ch21\Ch21-01b.jpg"/>
          <p:cNvPicPr/>
          <p:nvPr/>
        </p:nvPicPr>
        <p:blipFill>
          <a:blip r:embed="rId2"/>
          <a:srcRect l="0" t="0" r="0" b="87722"/>
          <a:stretch/>
        </p:blipFill>
        <p:spPr>
          <a:xfrm>
            <a:off x="457200" y="5081760"/>
            <a:ext cx="7313760" cy="1425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57200" y="838080"/>
            <a:ext cx="8229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1. Harrison Manufacturing paid cash for property tax, $840.00. Check No. 18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33"/>
          <p:cNvGrpSpPr/>
          <p:nvPr/>
        </p:nvGrpSpPr>
        <p:grpSpPr>
          <a:xfrm>
            <a:off x="455760" y="3154320"/>
            <a:ext cx="7011720" cy="1828800"/>
            <a:chOff x="455760" y="3154320"/>
            <a:chExt cx="7011720" cy="1828800"/>
          </a:xfrm>
        </p:grpSpPr>
        <p:grpSp>
          <p:nvGrpSpPr>
            <p:cNvPr id="177" name="Group 31"/>
            <p:cNvGrpSpPr/>
            <p:nvPr/>
          </p:nvGrpSpPr>
          <p:grpSpPr>
            <a:xfrm>
              <a:off x="4495680" y="3154320"/>
              <a:ext cx="2971800" cy="1824120"/>
              <a:chOff x="4495680" y="3154320"/>
              <a:chExt cx="2971800" cy="1824120"/>
            </a:xfrm>
          </p:grpSpPr>
          <p:sp>
            <p:nvSpPr>
              <p:cNvPr id="178" name="Text Box 8"/>
              <p:cNvSpPr/>
              <p:nvPr/>
            </p:nvSpPr>
            <p:spPr>
              <a:xfrm>
                <a:off x="5581080" y="31543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9"/>
              <p:cNvSpPr/>
              <p:nvPr/>
            </p:nvSpPr>
            <p:spPr>
              <a:xfrm>
                <a:off x="4495680" y="3535560"/>
                <a:ext cx="2971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10"/>
              <p:cNvSpPr/>
              <p:nvPr/>
            </p:nvSpPr>
            <p:spPr>
              <a:xfrm>
                <a:off x="5943600" y="353556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32"/>
            <p:cNvGrpSpPr/>
            <p:nvPr/>
          </p:nvGrpSpPr>
          <p:grpSpPr>
            <a:xfrm>
              <a:off x="455760" y="3154320"/>
              <a:ext cx="2971800" cy="1828800"/>
              <a:chOff x="455760" y="3154320"/>
              <a:chExt cx="2971800" cy="1828800"/>
            </a:xfrm>
          </p:grpSpPr>
          <p:sp>
            <p:nvSpPr>
              <p:cNvPr id="182" name="Text Box 12"/>
              <p:cNvSpPr/>
              <p:nvPr/>
            </p:nvSpPr>
            <p:spPr>
              <a:xfrm>
                <a:off x="681840" y="3154320"/>
                <a:ext cx="243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perty Tax Expen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3"/>
              <p:cNvSpPr/>
              <p:nvPr/>
            </p:nvSpPr>
            <p:spPr>
              <a:xfrm>
                <a:off x="455760" y="3535560"/>
                <a:ext cx="2971800" cy="4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4"/>
              <p:cNvSpPr/>
              <p:nvPr/>
            </p:nvSpPr>
            <p:spPr>
              <a:xfrm>
                <a:off x="1903320" y="3540240"/>
                <a:ext cx="0" cy="1442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Text Box 15"/>
          <p:cNvSpPr/>
          <p:nvPr/>
        </p:nvSpPr>
        <p:spPr>
          <a:xfrm>
            <a:off x="379800" y="368784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418640" y="365112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853560" y="447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635760" y="4221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9"/>
          <p:cNvSpPr/>
          <p:nvPr/>
        </p:nvSpPr>
        <p:spPr>
          <a:xfrm flipV="1">
            <a:off x="6536520" y="444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6352560" y="41990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1249200" y="2239920"/>
            <a:ext cx="659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915840"/>
                <a:tab algn="ctr" pos="2049480"/>
                <a:tab algn="ctr" pos="3198960"/>
                <a:tab algn="ctr" pos="4349880"/>
                <a:tab algn="ctr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70,000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84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7341120" y="643032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1-1, page 5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6:11:47Z</dcterms:created>
  <dc:creator>Mary Colleen McLaughlin</dc:creator>
  <dc:description/>
  <dc:language>en-US</dc:language>
  <cp:lastModifiedBy>David Combs</cp:lastModifiedBy>
  <dcterms:modified xsi:type="dcterms:W3CDTF">2011-10-17T18:38:38Z</dcterms:modified>
  <cp:revision>64</cp:revision>
  <dc:subject/>
  <dc:title>ADJUSTING ENTRY FOR SUPPLIES</dc:title>
</cp:coreProperties>
</file>